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1B4C-582F-403F-BAEE-11F78B929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4857-5451-4A9F-A427-01D2530CB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31DC-B637-4760-A5C3-59A6599D1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C5E3-478E-4EE8-A147-A578CE36E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BD42-2315-4E4E-B025-1FE1DACDA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6A0E-FCBC-4660-9AE8-8F1D8C434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A796-0E91-4ABB-A58A-9346D0F52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CC1C-29F3-4AB1-93AF-8CF6BF451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BE9A-3017-420B-96A6-8075C2D55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9B95-CDF8-4408-9F81-ACA197CCD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8AA3-6868-4DEB-819A-F0D97D090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18F8-B4A6-49DF-9D34-0C506EC61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658C1-4F9E-40C0-B5F0-35797B1D407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 u="sng">
                <a:solidFill>
                  <a:srgbClr val="e3ebf1"/>
                </a:solidFill>
                <a:uFillTx/>
                <a:latin typeface="Arial"/>
              </a:rPr>
              <a:t>Conditionals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The 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if clause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 expresses a condition that is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not true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 at the present time.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The condition might be highly unlikely or impossible.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he 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result clause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 tells what would happen if this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untrue condition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 were true.  It expresses the imagined result of an imagined condition.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If I were a cat, I would sleep all day.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If I had time, I would study another language.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If I had a lot of money, …..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If I were you, I wouldn’t worry.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4) </a:t>
            </a:r>
            <a:r>
              <a:rPr b="1" lang="en-US" sz="4400" spc="-1" strike="noStrike">
                <a:solidFill>
                  <a:srgbClr val="e3ebf1"/>
                </a:solidFill>
                <a:latin typeface="Arial"/>
              </a:rPr>
              <a:t>Past unreal conditional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 used to talk about conditions that were not true in the pas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express the imagined result of an imagined condition in the pa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e3ebf1"/>
                </a:solidFill>
                <a:latin typeface="Arial"/>
              </a:rPr>
              <a:t>Past unreal conditionals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 have a 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past perfect form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 of verb in the </a:t>
            </a:r>
            <a:r>
              <a:rPr b="0" lang="en-US" sz="4000" spc="-1" strike="noStrike" u="sng">
                <a:solidFill>
                  <a:srgbClr val="e3ebf1"/>
                </a:solidFill>
                <a:uFillTx/>
                <a:latin typeface="Arial"/>
              </a:rPr>
              <a:t>If clause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 and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would/could/might + have + past participl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of the verb in </a:t>
            </a:r>
            <a:r>
              <a:rPr b="0" lang="en-US" sz="4000" spc="-1" strike="noStrike" u="sng">
                <a:solidFill>
                  <a:srgbClr val="e3ebf1"/>
                </a:solidFill>
                <a:uFillTx/>
                <a:latin typeface="Arial"/>
              </a:rPr>
              <a:t>the result clause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The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if clause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 of the past unreal conditional expresses a condition that was not true in the past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The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result clause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 tells what would have happened  if the untrue condition had been true.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 u="sng">
                <a:solidFill>
                  <a:srgbClr val="e3ebf1"/>
                </a:solidFill>
                <a:uFillTx/>
                <a:latin typeface="Arial"/>
              </a:rPr>
              <a:t>Factual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If the temperature 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falls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 below 32 degrees F., water 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freezes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3ebf1"/>
                </a:solidFill>
                <a:uFillTx/>
                <a:latin typeface="Arial"/>
              </a:rPr>
              <a:t>futur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it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continu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rain, there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will b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 flo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3ebf1"/>
                </a:solidFill>
                <a:uFillTx/>
                <a:latin typeface="Arial"/>
              </a:rPr>
              <a:t>Present unreal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I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wer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you, I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would watc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 weather foreca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3ebf1"/>
                </a:solidFill>
                <a:uFillTx/>
                <a:latin typeface="Arial"/>
              </a:rPr>
              <a:t>Past unreal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I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had studi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I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would hav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ass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 te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sentences contain two clauses:</a:t>
            </a:r>
            <a:br>
              <a:rPr sz="4000"/>
            </a:br>
            <a:r>
              <a:rPr b="0" lang="en-US" sz="4000" spc="-1" strike="noStrike" u="sng">
                <a:solidFill>
                  <a:srgbClr val="468a4b"/>
                </a:solidFill>
                <a:uFillTx/>
                <a:latin typeface="Arial"/>
              </a:rPr>
              <a:t>the condition clause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 (if clause)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and</a:t>
            </a:r>
            <a:br>
              <a:rPr sz="4000"/>
            </a:br>
            <a:r>
              <a:rPr b="0" lang="en-US" sz="4000" spc="-1" strike="noStrike" u="sng">
                <a:solidFill>
                  <a:srgbClr val="468a4b"/>
                </a:solidFill>
                <a:uFillTx/>
                <a:latin typeface="Arial"/>
              </a:rPr>
              <a:t>the result clause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Conditional sentences show a relationship between a condition and a result of the condition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In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present unreal conditionals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, the condition and result are sometimes highly unlikely but possible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In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past conditionals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, the condition and therefore the result is never possible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If you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were coming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 tonight, we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could go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 to a movie (highly unlikely, but possible)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If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you had come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 last night, we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could have gone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 to a movie. (impossible; you didn’t come last night.)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 u="sng">
                <a:solidFill>
                  <a:srgbClr val="e3ebf1"/>
                </a:solidFill>
                <a:uFillTx/>
                <a:latin typeface="Arial"/>
              </a:rPr>
              <a:t>Other forms of conditionals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“</a:t>
            </a:r>
            <a:r>
              <a:rPr b="1" lang="en-US" sz="4000" spc="-1" strike="noStrike">
                <a:solidFill>
                  <a:srgbClr val="e3ebf1"/>
                </a:solidFill>
                <a:latin typeface="Arial"/>
              </a:rPr>
              <a:t>mixed conditionals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”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conditions in one time can relate to results in another time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If I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had studied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 something practical, I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could be making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 more money now.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e3ebf1"/>
                </a:solidFill>
                <a:latin typeface="Arial"/>
              </a:rPr>
              <a:t>Inverted conditionals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(more formal)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The </a:t>
            </a:r>
            <a:r>
              <a:rPr b="1" lang="en-US" sz="4000" spc="-1" strike="noStrike">
                <a:solidFill>
                  <a:srgbClr val="e3ebf1"/>
                </a:solidFill>
                <a:latin typeface="Arial"/>
              </a:rPr>
              <a:t>if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 is omitted and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were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,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hould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, or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had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 is moved before the subject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f I were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 happy =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Were I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 happy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If he should call =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hould he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 call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If I had known =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had I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 known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 u="sng">
                <a:solidFill>
                  <a:srgbClr val="e3ebf1"/>
                </a:solidFill>
                <a:uFillTx/>
                <a:latin typeface="Arial"/>
              </a:rPr>
              <a:t>If so, if not</a:t>
            </a:r>
            <a:br>
              <a:rPr sz="4000"/>
            </a:br>
            <a:r>
              <a:rPr b="1" lang="en-US" sz="4000" spc="-1" strike="noStrike">
                <a:solidFill>
                  <a:srgbClr val="e3ebf1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The condition is clear from a previous sentence.  It is not necessary to repeat the entire condition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I should pass all my courses this semester.  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If not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, I’ll enroll in summer school.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 u="sng">
                <a:solidFill>
                  <a:srgbClr val="e3ebf1"/>
                </a:solidFill>
                <a:uFillTx/>
                <a:latin typeface="Arial"/>
              </a:rPr>
              <a:t>Hope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is about what is possible (like factual and future conditionals)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I hope I can come to the picnic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e3ebf1"/>
                </a:solidFill>
                <a:uFillTx/>
                <a:latin typeface="Arial"/>
              </a:rPr>
              <a:t>Wish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 u="sng">
                <a:solidFill>
                  <a:srgbClr val="e3ebf1"/>
                </a:solidFill>
                <a:uFillTx/>
                <a:latin typeface="Arial"/>
              </a:rPr>
              <a:t>Wish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is about what is not likely or not possible.</a:t>
            </a:r>
            <a:br>
              <a:rPr sz="4000"/>
            </a:br>
            <a:r>
              <a:rPr b="0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Wish about the present or future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: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ish + past form of verb or would or could + base form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e wishes he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had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 more money.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W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ish about the past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: wish + past perfect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e wish you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had been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 here.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3ebf1"/>
                </a:solidFill>
                <a:uFillTx/>
                <a:latin typeface="Arial"/>
              </a:rPr>
              <a:t>Alternatives to IF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 the event, providing, provided, as long as, whether or not, even if, only if, unl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I will pass my exam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only if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 I study.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I will fail my exam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unless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 I study.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Only if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 it rains,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will we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 cancel the picnic.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Only if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 he asks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do I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 help her .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Whether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 I pass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or not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, I am going to Columbia in June.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s long as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 he ‘s going to be there, I’ll be there too.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3ebf1"/>
                </a:solidFill>
                <a:uFillTx/>
                <a:latin typeface="Arial"/>
              </a:rPr>
              <a:t>Implied condition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ith, without, or else, otherwi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1) </a:t>
            </a:r>
            <a:r>
              <a:rPr b="1" lang="en-US" sz="4000" spc="-1" strike="noStrike">
                <a:solidFill>
                  <a:srgbClr val="e3ebf1"/>
                </a:solidFill>
                <a:latin typeface="Arial"/>
              </a:rPr>
              <a:t>factual conditionals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ress general truths, habits, and logical possibilities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ent or past in both cl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f I have money, I spend 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With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proper identification, you can board the plane.</a:t>
            </a:r>
            <a:br>
              <a:rPr sz="4000"/>
            </a:br>
            <a:r>
              <a:rPr b="0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Without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proper documentation, you can’t take the test.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He will go 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or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I won’t stay.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He will go.  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Otherwise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, I am leaving.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The End!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If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a bird is happy, it sings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.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You see a lot of bears 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if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you live in Montana.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My cat moves her tail a lot 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if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she’s nervous.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If I needed help, she gave it to me.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2) </a:t>
            </a:r>
            <a:r>
              <a:rPr b="1" lang="en-US" sz="4400" spc="-1" strike="noStrike">
                <a:solidFill>
                  <a:srgbClr val="e3ebf1"/>
                </a:solidFill>
                <a:latin typeface="Arial"/>
              </a:rPr>
              <a:t>future conditional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ress conditions and results in the future.  The</a:t>
            </a:r>
            <a:r>
              <a:rPr b="0" lang="en-US" sz="2400" spc="-1" strike="noStrike">
                <a:solidFill>
                  <a:srgbClr val="468a4b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f clau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in the present an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resul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au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in the future with </a:t>
            </a:r>
            <a:r>
              <a:rPr b="0" lang="en-US" sz="2400" spc="-1" strike="noStrike">
                <a:solidFill>
                  <a:srgbClr val="468a4b"/>
                </a:solidFill>
                <a:latin typeface="Arial"/>
              </a:rPr>
              <a:t>will or be going 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f it rains tomorrow, we won’t go to the poo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Future conditionals express what will happen in the future if certain conditions occur. They are often used to make predictions, plans, offers, suggestions requests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If you study, you’ll pass the test.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If you go to New York  next week, you’ll see the show.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3) </a:t>
            </a:r>
            <a:r>
              <a:rPr b="1" lang="en-US" sz="4400" spc="-1" strike="noStrike">
                <a:solidFill>
                  <a:srgbClr val="e3ebf1"/>
                </a:solidFill>
                <a:latin typeface="Arial"/>
              </a:rPr>
              <a:t>Present unreal conditional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 used to talk about conditions that are not true in the prese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out the imagined results of these condi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Present unreal conditionals have a 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past form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 of the verb in the</a:t>
            </a:r>
            <a:r>
              <a:rPr b="0" lang="en-US" sz="4000" spc="-1" strike="noStrike" u="sng">
                <a:solidFill>
                  <a:srgbClr val="e3ebf1"/>
                </a:solidFill>
                <a:uFillTx/>
                <a:latin typeface="Arial"/>
              </a:rPr>
              <a:t> if 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clause and 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would/could/might + base form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in the </a:t>
            </a:r>
            <a:r>
              <a:rPr b="0" lang="en-US" sz="4000" spc="-1" strike="noStrike" u="sng">
                <a:solidFill>
                  <a:srgbClr val="e3ebf1"/>
                </a:solidFill>
                <a:uFillTx/>
                <a:latin typeface="Arial"/>
              </a:rPr>
              <a:t>result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 clause. 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If we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had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a car, we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would drive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to the mall.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Were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 is used for all persons of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be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 in the </a:t>
            </a:r>
            <a:r>
              <a:rPr b="0" lang="en-US" sz="4000" spc="-1" strike="noStrike" u="sng">
                <a:solidFill>
                  <a:srgbClr val="e3ebf1"/>
                </a:solidFill>
                <a:uFillTx/>
                <a:latin typeface="Arial"/>
              </a:rPr>
              <a:t>if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 clause.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(I, you, she, he, we, they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wer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)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If I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were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 the teacher, I’d give a lot less homework.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4T17:58:08Z</dcterms:created>
  <dc:creator>staff</dc:creator>
  <dc:description/>
  <dc:language>en-US</dc:language>
  <cp:lastModifiedBy>User</cp:lastModifiedBy>
  <dcterms:modified xsi:type="dcterms:W3CDTF">2009-02-08T15:23:47Z</dcterms:modified>
  <cp:revision>13</cp:revision>
  <dc:subject/>
  <dc:title>Conditionals</dc:title>
</cp:coreProperties>
</file>